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EA1-7ED5-46CD-85E8-765919CC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5C7-12AC-438B-89D8-B304AD5E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EA0-2EC7-414D-8DBD-C3A5FEA3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CAC-02C4-4397-AB6D-027858E3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516C-A43C-4541-B460-C0C41A0E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2E1E-C91B-4E26-8375-BA191DD7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B209-7FA5-48E5-9997-A092C7CB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CC12-13DB-46CA-AAE0-4A1FDD3D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A204-DB0C-4AC3-9F9D-7B7E2977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F9B7-8163-4B41-86EB-FD296626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9B5C-C6EC-49B1-91F1-693F95BA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C0A2-33C3-4B35-8486-D47D17DB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F508-DE2C-4671-B46C-FB898D83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4E68-6E8E-440A-9FA2-D86F001D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CFE6-B27C-400B-8D98-E76A0594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39A3-A800-474F-B1D8-094A89F9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3BD8-E4AF-43D3-B4A1-44778EF8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C509-5D30-4D53-B46B-1C151D32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BC8-757D-46D9-9073-44F03547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1D2-1E1D-4111-9FAA-5DB26416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939-979D-4AC4-836D-1EDC6321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D87F-BBB6-40A8-8F69-E34340AE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4EA-2703-434E-8A10-B92C0DC7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F9B-344D-4FF1-8176-F4E4D3E3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65D0-7F6B-420B-A452-79DF0D68E279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A3B4-AD87-4718-91CB-F089B1526BE7}" type="slidenum">
              <a:rPr b="0" lang="sr-Latn-C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3520-C966-4E97-9154-3F7B1281F5F4}" type="slidenum"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ови споразум о капиталу Базел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I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р Ката Шкарић Јованови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2AEF-2882-49CD-80D4-4F501F384C99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 истом периоду захтева се повећање чешћа укуног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ier-а 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   са 4% на 6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 значи да капитал који чини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ier II може чинити само 2% капита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8B8A-98D2-4D26-A43D-1C990B2C98CE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ier III  /допунски капитал II/ који се користи за покриће тржишних ризика је  потпуно укинут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5A9D-8516-41EF-B1D6-F385620B32AE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ова категорија капитал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Conservation buffer – заштитни  капитал који повећава захтевани минимални капитал за 2,5% common equity nakon умањењ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мењен је  да апсорбује губитке током периода финансијских и економских криз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386F-FBBA-442B-ADB0-2AFB9BEFDDCA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а категорија капитала треба да буде постепено увођена у периоду од 2016. до 2019. годин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 случају да банка током кризног периода користи овај капитал и да се њена рациа капитала приближе захтеваном минимуму, тада се могу поставити значајни захтеви за ограничавање расподеле доби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9FA0-0C6D-40F7-8483-70FF07F8318A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нтициклични капитал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ва категорија капитала није обавезна, али се њено формирање препоручује. Циљ је заштита банкарском сектора у периодима појачаног раста креди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4619-B7D7-44DA-884B-EBA95269A8DF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хтеви за капитало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82600" y="2017800"/>
          <a:ext cx="7772400" cy="43275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mon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er 1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купан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им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штитни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куп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ициклични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9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и бројеви у процент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E11C-8814-431D-BD57-B1B4AFD532FE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ови захтеви за common equity капитало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728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1187280" y="2421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3635280" y="4292640"/>
            <a:ext cx="2737080" cy="14414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equity tier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3635280" y="3716280"/>
            <a:ext cx="2737080" cy="5763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ervation bu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3635280" y="3141720"/>
            <a:ext cx="27370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2,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Contracyclical bu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F045-24FB-4374-9AE9-16CBF72D7AA5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ако умањење компоненти које чине капитал мора бити извршено    од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common equity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новног капитала, за разлику од постојећих решења где се бројна умањења врше од укупног капита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9426-8683-4EAE-BB9B-1037C67160F6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лагања у финансијске институције, одложена пореска средства из временских разлика и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mortage servicing right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е ограничавај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1D09-353D-40FD-9247-937472EEB81A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ранзициони аранжма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штри захтеви за повећањем common equity капитала и променом структуре укупог капитала ублажени су релативно дугим периодом у коме банке треба да им се прилагод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ве две године 2011. и 2012. година су предвиђене за припрему за примену наведених захте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A288-9888-4BFF-A7F8-D45BFA19352A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так Споразума о адекватности капита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езбеђење потребне ликвидности и солвентности бана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чев од 1988. године Базел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мењен 199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4. усвојен је Базел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II, примена од у земљама ЕУ од 2007. годи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10. Базел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III, примена 201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0D47-5DE5-4BDC-B38F-EB79A4780D93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инамика примене минималних захте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4360" y="2017800"/>
          <a:ext cx="8459640" cy="4746600"/>
        </p:xfrm>
        <a:graphic>
          <a:graphicData uri="http://schemas.openxmlformats.org/drawingml/2006/table">
            <a:tbl>
              <a:tblPr/>
              <a:tblGrid>
                <a:gridCol w="3166920"/>
                <a:gridCol w="720720"/>
                <a:gridCol w="720720"/>
                <a:gridCol w="719280"/>
                <a:gridCol w="792000"/>
                <a:gridCol w="720720"/>
                <a:gridCol w="792360"/>
                <a:gridCol w="826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common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Заштитни капитал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ervation buf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+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3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тепено умањење common equity Т1 *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имум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er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имум укупног капит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имум укупног капитала+заштитни капи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струменти капитала који се више не квалификују за 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er 1 или Tier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писују се током 10 година почев од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цио ликви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 ста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цио дугорочне стабил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 стан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FBCB-7A4F-42B9-8C5B-E14BF3D7EAB0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цио ликвид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Liquidity coverage ratio L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раткорочна ликвидност до 30 да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сполагање износима високо ликвидним средствима довољним за покриће изненадних потреба за ликвидним средстви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ок високо квалитетних ликвидних средстава/нето готовинске одливе&gt;10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CAD6-4E4D-4978-AEEB-CAABFA4E4E52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цио дугорочне структурне ликвид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Net stable funding ratio NSF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игурава подударање извода са наменама финансира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сположиви износ стабилних извора финансирања/потребан износ стабилних извора&gt;10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9758-293E-41AF-903A-34EDBECF92B9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евериџ раци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инимални рацио левериџа за капитал првог реда  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днос капитала и укупне изложе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аћење примене од јануара 2011, а период паралелне примене 2013-201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5522-E16C-4181-8B8E-066D5C662F32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уњење захтева по овом споразуму захтева обезбеђење високих износа додатног дугорочног капитала за европске банке око 1,3 трилиона ев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conomist, May 27,20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13A6-CE55-470F-8224-AE9E27C8FCBB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ови споразум о адекватности капитала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ier II се ослања на искуства стечена у примени досадашња два споразума, нарочито у примен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азел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II али и на сазнањима проистеклим из глобалне економско финансијске криз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0A5B-088A-4D6A-8CEE-8D66C44F901E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иљ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постизање равнотеже између захтева за изградњом и одржавањем стабилних финансијских система, с једне стране и постизања потребног кредитног нивоа, с друге стране 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свођење на најмању меру ангажовања средстава државе и пореских обвезника за покриће губитака и санацију приватних финансијских институциј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E77E-C869-46F2-A7B3-26253325CD7D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поразум треба да значајно допринесе дугорочној финансијској стабилности и раст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бинација много строжије дефиниције капитала, виших минималних затева и увођење новог заштитног капитала треба да осигура да ће банке бити у далеко већој мери способне да се супротставе  периодима економског и финансијског стреса те да подрже економски раст” Nout Wellink, predsednik Bazelskog komiteta za superviziju bana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69A7-0E9C-4B73-8913-FB98103C0546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нструменти за реализацију ових циље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рожија дефиниција капитала који чини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ier I i Tier 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дизање захтева за минимумо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ођење обавезе формирања додатног заштитног капитала 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ођење рациа левериџ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ођење рациа ликвид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862E-FEE0-4F78-98F4-34A315E43BA1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ме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емље чланице морају инкорпорирати правила у национално законодавство и регулативо пре 1. јануара 2013. године, када почиње њинова приме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9548-585A-4EB9-AE8B-333119399DB3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овећани капитални захтев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 Базел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II, уместо концепта Co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Tier  1 користи се терми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common equit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који означава капитал стечен продајом обичних акција и задржану добит, као облик капитала који је најподобнији да апсорбује губитке и задржану добит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чешће овог капитала се повећава  са садашњих 2% на 4,5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вај захтев треба да буде испуњен почев од 2013. до 2015. годи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11B8-7791-4A5F-9F5B-D831FECEF6E2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стали делови капитала у оквиру.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Tier-а I  могу дакле учествовати само са 1,5% (аdditional going concern capita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исли се на друге финансијске инструменте који испуњавају стриктне критеријуме, на пример преференцијалне некумулативне акциј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1:00:07Z</dcterms:created>
  <dc:creator>kata</dc:creator>
  <dc:description/>
  <dc:language>en-US</dc:language>
  <cp:lastModifiedBy>Kata Skaric</cp:lastModifiedBy>
  <dcterms:modified xsi:type="dcterms:W3CDTF">2013-07-06T20:54:31Z</dcterms:modified>
  <cp:revision>7</cp:revision>
  <dc:subject/>
  <dc:title>Нови споразум о капиталу Базел III</dc:title>
</cp:coreProperties>
</file>