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3D3-FEEB-4170-B15E-42E8489F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821-5A1A-4003-A461-0152F15B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EB8-6C46-4842-B565-CCB76DE2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75B-E9D0-4D67-815B-6A56A6AF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9031-4C72-499E-8940-B2C38899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66B3-4C5E-4DB7-A90E-FCDE1D1F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3A55-09ED-42EC-AC10-8EE1B1A3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0A40-7F69-4663-BAD4-7A4B9E99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80A5-9415-48FA-92B4-49D84DD5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D47B-E24B-4921-8BE3-1723BC75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0872-74F5-424D-BFB6-F1F6F96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1AC-C741-41DF-B766-9C9946CC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B1E3-47D5-46A9-B7A0-05D90852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47A7-DA65-4E36-8F86-1238344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09F5-DDC4-4685-BB4D-FB4E1509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220B-CBDA-4E30-A505-CC6E6AEF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46AE-98D8-441F-80AA-36C5D276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074-A04C-4951-B0F4-139F4D29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AB9-D97A-4005-BAEA-21E90FC2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CA7-90C9-4820-AC79-1C635A76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1CD-7752-4949-B779-B976953C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30B-FCBC-4332-8F42-752DC1CE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7DD-1304-4621-B0AD-598BC2A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90C-445C-4924-8F6C-6AB8B461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8B28-EF68-4B8E-9187-929052E7AB35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473B-506B-4AD9-8F7E-E4D7AB50D76E}" type="slidenum">
              <a:rPr b="0" lang="sr-Latn-C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E9B2-FD3D-4D43-AF30-E508F07AF3D6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ови споразум о капиталу Базел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р Ката Шкарић Јованови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9EDF-6A24-4395-929D-8551B97E25CC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 истом периоду захтева се повећање чешћа укуног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-а 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   са 4% на 6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 значи да капитал који чин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I може чинити само 2% капит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1517-93D7-42B6-9D04-D1652264C647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II  /допунски капитал II/ који се користи за покриће тржишних ризика је  потпуно укинут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0875-D9F7-416D-B152-E630A2679310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ова категорија капитал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onservation buffer – заштитни  капитал који повећава захтевани минимални капитал за 2,5% common equity nakon умањењ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мењен је  да апсорбује губитке током периода финансијских и економских криз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CE20-9950-4926-AB18-C58C526D6500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а категорија капитала треба да буде постепено увођена у периоду од 2016. до 2019. годин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 случају да банка током кризног периода користи овај капитал и да се њена рациа капитала приближе захтеваном минимуму, тада се могу поставити значајни захтеви за ограничавање расподеле доби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C562-1BFA-4D10-86B9-1880AD8A0C4E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нтициклични капита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ва категорија капитала није обавезна, али се њено формирање препоручује. Циљ је заштита банкарском сектора у периодима појачаног раста креди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9F9B-F88D-4297-B233-2376925B783F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хтеви за капитал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2600" y="2017800"/>
          <a:ext cx="7772400" cy="4327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mon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 1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купан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штитни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циклични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9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и бројеви у процент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5DC0-C5F3-4995-93D2-727E225B442F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ови захтеви за common equity капитал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18728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635280" y="4292640"/>
            <a:ext cx="2737080" cy="1441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equity tier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635280" y="3716280"/>
            <a:ext cx="2737080" cy="576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ervation bu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3635280" y="3141720"/>
            <a:ext cx="2737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ntracyclical bu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2DAD-9BA2-49A4-A105-603EFC398878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ако умањење компоненти које чине капитал мора бити извршено    од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ommon equity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новног капитала, за разлику од постојећих решења где се бројна умањења врше од укупног капит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F49-D7F6-4D08-815E-3F1661080CEA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лагања у финансијске институције, одложена пореска средства из временских разлика 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mortage servicing right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 ограничавај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A3B3-8FBD-43EE-A1A5-F233F4085525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анзициони аранжм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штри захтеви за повећањем common equity капитала и променом структуре укупог капитала ублажени су релативно дугим периодом у коме банке треба да им се прилагод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ве две године 2011. и 2012. година су предвиђене за припрему за примену наведених захте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6AD0-85DF-4A32-9758-AC3D012DD575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так Споразума о адекватности капита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езбеђење потребне ликвидности и солвентности бана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в од 1988. године 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мењен 199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4. усвојен је 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I, примена од у земљама ЕУ од 2007. год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10. 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II, примена 201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582F-691E-44EC-8DEE-3EF0FA76382E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намика примене минималних захте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4360" y="2017800"/>
          <a:ext cx="8459640" cy="4746600"/>
        </p:xfrm>
        <a:graphic>
          <a:graphicData uri="http://schemas.openxmlformats.org/drawingml/2006/table">
            <a:tbl>
              <a:tblPr/>
              <a:tblGrid>
                <a:gridCol w="3166920"/>
                <a:gridCol w="720720"/>
                <a:gridCol w="720720"/>
                <a:gridCol w="719280"/>
                <a:gridCol w="792000"/>
                <a:gridCol w="720720"/>
                <a:gridCol w="792360"/>
                <a:gridCol w="82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common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Заштитни капитал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ervation buf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+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епено умањење common equity Т1 *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 укупног капит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 укупног капитала+заштитни капи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струменти капитала који се више не квалификују за 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 1 или Ti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писују се током 10 година почев од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цио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 ста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цио дугорочне стабил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 стан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82DD-A70E-4E5F-88F3-FE8F73CFFF81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цио ликвид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quidity coverage ratio L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аткорочна ликвидност до 30 да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полагање износима високо ликвидним средствима довољним за покриће изненадних потреба за ликвидним средстви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к високо квалитетних ликвидних средстава/нето готовинске одливе&gt;10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D11A-1662-43EE-82F1-779E5123440C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цио дугорочне структурне ликвид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Net stable funding ratio NSF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игурава подударање извода са наменама финансира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положиви износ стабилних извора финансирања/потребан износ стабилних извора&gt;10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5AA-7B01-4287-9643-3C226DD2E4E8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вериџ раци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инимални рацио левериџа за капитал првог реда  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нос капитала и укупне изложе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ћење примене од јануара 2011, а период паралелне примене 2013-201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CA15-6DCF-4AA8-A4FB-3388F0C889B0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уњење захтева по овом споразуму захтева обезбеђење високих износа додатног дугорочног капитала за европске банке око 1,3 трилиона 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conomist, May 27,2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1B9E-8A6A-4F8A-8B47-F8774089089B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ви споразум о адекватности капитала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I се ослања на искуства стечена у примени досадашња два споразума, нарочито у примен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I али и на сазнањима проистеклим из глобалне економско финансијске криз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A237-C59D-481A-8FC3-20C72226664E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иљ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постизање равнотеже између захтева за изградњом и одржавањем стабилних финансијских система, с једне стране и постизања потребног кредитног нивоа, с друге стране 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свођење на најмању меру ангажовања средстава државе и пореских обвезника за покриће губитака и санацију приватних финансијских институциј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6076-8455-4848-A74E-541C96DE043E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оразум треба да значајно допринесе дугорочној финансијској стабилности и рас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бинација много строжије дефиниције капитала, виших минималних затева и увођење новог заштитног капитала треба да осигура да ће банке бити у далеко већој мери способне да се супротставе  периодима економског и финансијског стреса те да подрже економски раст” Nout Wellink, predsednik Bazelskog komiteta za superviziju bana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F2A5-AF89-4EC7-99CA-47AD26CEEA6B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нструменти за реализацију ових циље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ожија дефиниција капитала који чин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 i Tier 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изање захтева за минимумо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ођење обавезе формирања додатног заштитног капитала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ођење рациа левериџ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ођење рациа ликвид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1943-DC36-46DF-AF2B-4CDFCDB1C500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емље чланице морају инкорпорирати правила у национално законодавство и регулативо пре 1. јануара 2013. године, када почиње њинова приме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AEA4-F773-484B-A8C8-29677EC4A050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већани капитални захтев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 Базел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II, уместо концепта C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Tier  1 користи се терми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common equit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који означава капитал стечен продајом обичних акција и задржану добит, као облик капитала који је најподобнији да апсорбује губитке и задржану доби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ешће овог капитала се повећава  са садашњих 2% на 4,5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вај захтев треба да буде испуњен почев од 2013. до 2015. год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616A-937B-40D8-B350-EA6D292032AB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тали делови капитала у оквиру.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Tier-а I  могу дакле учествовати само са 1,5% (аdditional going concern capita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исли се на друге финансијске инструменте који испуњавају стриктне критеријуме, на пример преференцијалне некумулативне акциј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1:00:07Z</dcterms:created>
  <dc:creator>kata</dc:creator>
  <dc:description/>
  <dc:language>en-US</dc:language>
  <cp:lastModifiedBy>Kata Skaric</cp:lastModifiedBy>
  <dcterms:modified xsi:type="dcterms:W3CDTF">2013-07-06T20:54:31Z</dcterms:modified>
  <cp:revision>7</cp:revision>
  <dc:subject/>
  <dc:title>Нови споразум о капиталу Базел III</dc:title>
</cp:coreProperties>
</file>